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-360" y="-8429760"/>
            <a:ext cx="360" cy="182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211C-6CF1-4084-BB61-5DE6E8530F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6557-FB1D-4170-8962-0C0DFF542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D6A7-DF95-4AB8-8BB9-1837FE117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400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400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B1A8-8DE9-45A2-A17C-DF6E6F4DEE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0800" y="-146160"/>
            <a:ext cx="769284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D120-C379-4B93-8053-B099A604E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400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192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400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8AD6-12EC-4211-8EDD-6FC23A96E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76EB4-3AD9-4B83-887D-D0903C49C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7B756-4E03-4833-9E72-3ECCC85CE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80800" y="-146160"/>
            <a:ext cx="769284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8F6F-6B78-4EA1-9B08-0AFECF894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3A014-DE50-46C5-8D07-E5E6E8B9EA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CA3C9-2AC7-4FB9-A96B-821BC2324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3D96-E3F3-477F-97D4-5A0FBCCCE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93680" y="68400"/>
            <a:ext cx="8381880" cy="1141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8640" indent="-27864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23148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397560"/>
            <a:ext cx="1901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B11E6-5051-4E72-8356-6FE642B0CF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8600" y="6394320"/>
            <a:ext cx="8153280" cy="180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03840" y="6400800"/>
            <a:ext cx="340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1200"/>
            </a:br>
            <a:r>
              <a:rPr b="0" i="1" lang="en-GB" sz="1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3680" y="422280"/>
            <a:ext cx="8381880" cy="1141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083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8600" y="6172200"/>
            <a:ext cx="8153280" cy="144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53960" y="380880"/>
            <a:ext cx="606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808080"/>
                </a:solidFill>
                <a:latin typeface="Arial"/>
              </a:rPr>
              <a:t>NA-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2200"/>
            </a:br>
            <a:r>
              <a:rPr b="0" i="1" lang="en-GB" sz="2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ition of Slicer2.x Modules to Slicer3: Fiduci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65760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1371600"/>
            <a:ext cx="18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1600200"/>
            <a:ext cx="3810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c6314"/>
                </a:solidFill>
                <a:latin typeface="Arial Narrow"/>
              </a:rPr>
              <a:t>Nicole Aucoin, BWH (conta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c6314"/>
                </a:solidFill>
                <a:latin typeface="Arial Narrow"/>
              </a:rPr>
              <a:t>Steve Pieper, Isomic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1447920"/>
            <a:ext cx="4724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76520" y="2057400"/>
            <a:ext cx="310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Software: Implement placing Fiducials in 3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Discuss how to integrate display sty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2362320"/>
            <a:ext cx="24670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1960" y="117000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lan/Expected Challenges/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8520" y="117648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7200" y="3747960"/>
            <a:ext cx="41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ccomplished by end of Programming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18240" y="3733920"/>
            <a:ext cx="47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16160" y="4921200"/>
            <a:ext cx="658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Various picking strategies were explored for placing fiducials in 3D, but a final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is reliant on some architecture reorganisation to integrate event handling. Compl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is projected to occur by mid-Febru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4921200"/>
            <a:ext cx="2924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1480" y="3032280"/>
            <a:ext cx="3798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2682720"/>
            <a:ext cx="5029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8040" y="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2007 Project Half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